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094413" cy="8794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6"/>
          <p:cNvGraphicFramePr/>
          <p:nvPr/>
        </p:nvGraphicFramePr>
        <p:xfrm>
          <a:off x="0" y="0"/>
          <a:ext cx="5335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33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WordArt 17"/>
          <p:cNvSpPr txBox="1"/>
          <p:nvPr/>
        </p:nvSpPr>
        <p:spPr>
          <a:xfrm>
            <a:off x="8353440" y="6540480"/>
            <a:ext cx="714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理学院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" name="AutoShape 25">
            <a:hlinkClick r:id="" action="ppaction://hlinkshowjump?jump=nextslide"/>
          </p:cNvPr>
          <p:cNvSpPr/>
          <p:nvPr/>
        </p:nvSpPr>
        <p:spPr>
          <a:xfrm>
            <a:off x="7924680" y="655308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6">
            <a:hlinkClick r:id="" action="ppaction://hlinkshowjump?jump=previousslide"/>
          </p:cNvPr>
          <p:cNvSpPr/>
          <p:nvPr/>
        </p:nvSpPr>
        <p:spPr>
          <a:xfrm>
            <a:off x="7467480" y="655308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52388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3645000"/>
            <a:ext cx="22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王学顺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积分变换与数学物理方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26920" y="333360"/>
            <a:ext cx="60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理量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、应用物理学基本规律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404640"/>
            <a:ext cx="194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3336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以算式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9079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表达这个作用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90792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并将算式作适当整理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调整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和简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484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抓住问题的主要方面，略去次要因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148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从而得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数学物理方程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26370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方程建立后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263700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要研究系统所处边界的条件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系统所处的初始状态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314172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列出定解条件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3141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然后提出相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716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定解问题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03280" y="260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黑体"/>
                <a:ea typeface="黑体"/>
              </a:rPr>
              <a:t>§1 </a:t>
            </a: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弦振动方程与定解条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052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弦的微小横振动方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44680" y="1832040"/>
                <a:ext cx="7047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有一根拉紧着的、均匀、柔软而有弹性的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55640" y="2421000"/>
                <a:ext cx="533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弦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332000" y="2421000"/>
                <a:ext cx="1447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长为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05120" y="2427120"/>
                <a:ext cx="3860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整个系统作微小横振动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588000" y="2421000"/>
                <a:ext cx="1828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下面建立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36560" y="3003480"/>
                <a:ext cx="3073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的微小横振动方程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76360" y="3571920"/>
                <a:ext cx="2311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弦被拉紧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51280" y="3571920"/>
                <a:ext cx="232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弦上出现张力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156360" y="3571920"/>
                <a:ext cx="2197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使弦呈直线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84360" y="4148280"/>
                <a:ext cx="1625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态而静止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33520" y="4160880"/>
                <a:ext cx="5629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当弦上某部分不静止或受到外力后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8028000" y="414828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84360" y="4724280"/>
                <a:ext cx="1968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于张力作用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700360" y="4724280"/>
                <a:ext cx="30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弦就要发生振动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796000" y="4724280"/>
                <a:ext cx="2736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现研究弦作微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84360" y="5300640"/>
                <a:ext cx="2361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横振动的规律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339920" y="5883120"/>
                <a:ext cx="35179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弦中的张力很大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788000" y="5877000"/>
                <a:ext cx="360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以至于重力对弦的作用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11280" y="1844640"/>
            <a:ext cx="8208720" cy="947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横振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指振动发生在一个平面内，且弦上各点的运动方向垂直于平衡位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03280" y="981000"/>
                <a:ext cx="4176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为了求出弦的横振动方程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580000" y="981000"/>
                <a:ext cx="2692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图选择坐标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557360"/>
                <a:ext cx="37843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取弦的平衡位置为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轴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5651640" y="3357720"/>
            <a:ext cx="324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940360" y="162828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27400" y="2565360"/>
            <a:ext cx="2625840" cy="20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" y="9272"/>
                </a:moveTo>
                <a:arcTo wR="10800" hR="10800" stAng="-10312068" swAng="9550887"/>
                <a:lnTo>
                  <a:pt x="10800" y="10800"/>
                </a:lnTo>
                <a:close/>
              </a:path>
              <a:path fill="none" w="21600" h="21600">
                <a:moveTo>
                  <a:pt x="109" y="9272"/>
                </a:moveTo>
                <a:arcTo wR="10800" hR="10800" stAng="-10312068" swAng="9550887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87880" y="2530080"/>
            <a:ext cx="2727000" cy="180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5" y="5598"/>
                </a:moveTo>
                <a:arcTo wR="10800" hR="10800" stAng="-9072339" swAng="2707949"/>
                <a:lnTo>
                  <a:pt x="10800" y="10800"/>
                </a:lnTo>
                <a:close/>
              </a:path>
              <a:path fill="none" w="21600" h="21600">
                <a:moveTo>
                  <a:pt x="1335" y="5598"/>
                </a:moveTo>
                <a:arcTo wR="10800" hR="10800" stAng="-9072339" swAng="2707949"/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948360" y="2420640"/>
            <a:ext cx="792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25653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299736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724360" y="2997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24360" y="3429000"/>
                <a:ext cx="216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8675640" y="3429000"/>
                <a:ext cx="23508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662440" y="1733400"/>
                <a:ext cx="2066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8459640" y="3429000"/>
                <a:ext cx="165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12000" y="2637000"/>
                <a:ext cx="28872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04000" y="2265480"/>
                <a:ext cx="289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6156360" y="29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48360" y="2565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084720" y="3429000"/>
                <a:ext cx="21600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659640" y="3357720"/>
                <a:ext cx="87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651640" y="2924280"/>
                <a:ext cx="268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2565360"/>
                <a:ext cx="2746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7380360" y="2494080"/>
            <a:ext cx="142560" cy="14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1571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15718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500720" y="1557360"/>
                <a:ext cx="7236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弦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84360" y="2133720"/>
                <a:ext cx="4178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两端点分别固定在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及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84360" y="2637000"/>
                <a:ext cx="1333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上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03280" y="3284640"/>
                <a:ext cx="3987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设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表示弦上横坐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84360" y="3933720"/>
                <a:ext cx="73022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为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点在时刻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时沿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垂直于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轴方向的位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1332000" y="4365720"/>
            <a:ext cx="4787640" cy="863280"/>
            <a:chOff x="1332000" y="4365720"/>
            <a:chExt cx="4787640" cy="863280"/>
          </a:xfrm>
        </p:grpSpPr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1332000" y="4365720"/>
                  <a:ext cx="47876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在这弦上任取一小弦段</m:t>
                      </m:r>
                      <m:limUp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220" name=""/>
            <p:cNvSpPr/>
            <p:nvPr/>
          </p:nvSpPr>
          <p:spPr>
            <a:xfrm>
              <a:off x="5020560" y="4508640"/>
              <a:ext cx="7747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64" y="2782"/>
                  </a:moveTo>
                  <a:arcTo wR="10800" hR="10800" stAng="-7923860" swAng="5004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64" y="2782"/>
                  </a:moveTo>
                  <a:arcTo wR="10800" hR="10800" stAng="-7923860" swAng="5004753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227640" y="4581360"/>
                <a:ext cx="2133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弦的振动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84360" y="5157720"/>
                <a:ext cx="1968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是很微小的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00360" y="5157720"/>
                <a:ext cx="5688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故可认为弦在振动过程中并未伸长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684360" y="5516640"/>
            <a:ext cx="4736880" cy="864720"/>
            <a:chOff x="684360" y="5516640"/>
            <a:chExt cx="4736880" cy="86472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84360" y="5516640"/>
                  <a:ext cx="473688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即可认为</m:t>
                      </m:r>
                      <m:limUp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的弦长</m:t>
                          </m:r>
                        </m:e>
                        <m:lim/>
                      </m:limUp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s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 </m:t>
                      </m:r>
                      <m:r>
                        <m:t xml:space="preserve">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2069280" y="5661000"/>
              <a:ext cx="77436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64" y="2782"/>
                  </a:moveTo>
                  <a:arcTo wR="10800" hR="10800" stAng="-7923860" swAng="5004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3564" y="2782"/>
                  </a:moveTo>
                  <a:arcTo wR="10800" hR="10800" stAng="-7923860" swAng="5004753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940360" y="3357720"/>
            <a:ext cx="25923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40720" y="2637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596360" y="3429000"/>
                <a:ext cx="21564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812000" y="2852640"/>
                <a:ext cx="7207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580000" y="3213000"/>
                <a:ext cx="2001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812000" y="2276640"/>
                <a:ext cx="2174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508720" y="5734080"/>
                <a:ext cx="2895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时可以证明张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404640"/>
                <a:ext cx="23623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可以忽略不计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900000" y="476280"/>
                <a:ext cx="2273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是一个常数，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" name=""/>
          <p:cNvGrpSpPr/>
          <p:nvPr/>
        </p:nvGrpSpPr>
        <p:grpSpPr>
          <a:xfrm>
            <a:off x="5580000" y="259920"/>
            <a:ext cx="3330720" cy="2884680"/>
            <a:chOff x="5580000" y="259920"/>
            <a:chExt cx="3330720" cy="2884680"/>
          </a:xfrm>
        </p:grpSpPr>
        <p:sp>
          <p:nvSpPr>
            <p:cNvPr id="237" name=""/>
            <p:cNvSpPr/>
            <p:nvPr/>
          </p:nvSpPr>
          <p:spPr>
            <a:xfrm>
              <a:off x="5651640" y="1917720"/>
              <a:ext cx="32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940360" y="259920"/>
              <a:ext cx="0" cy="201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27400" y="1125360"/>
              <a:ext cx="2625840" cy="20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" y="9272"/>
                  </a:moveTo>
                  <a:arcTo wR="10800" hR="10800" stAng="-10312068" swAng="9550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" y="9272"/>
                  </a:moveTo>
                  <a:arcTo wR="10800" hR="10800" stAng="-10312068" swAng="9550887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87880" y="1090080"/>
              <a:ext cx="2727000" cy="180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35" y="5598"/>
                  </a:moveTo>
                  <a:arcTo wR="10800" hR="10800" stAng="-9072339" swAng="2707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35" y="5598"/>
                  </a:moveTo>
                  <a:arcTo wR="10800" hR="10800" stAng="-9072339" swAng="2707949"/>
                </a:path>
              </a:pathLst>
            </a:cu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948360" y="980640"/>
              <a:ext cx="792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48360" y="1125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795640" y="155736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724360" y="155736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724360" y="1989000"/>
                  <a:ext cx="21600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8675640" y="1989000"/>
                  <a:ext cx="23508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662440" y="293760"/>
                  <a:ext cx="20664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8459640" y="1989000"/>
                  <a:ext cx="1652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012000" y="1197000"/>
                  <a:ext cx="28872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6804000" y="825480"/>
                  <a:ext cx="28908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6156360" y="155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48360" y="112536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6084720" y="1989000"/>
                  <a:ext cx="216000" cy="2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659640" y="1917720"/>
                  <a:ext cx="87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5651640" y="1484280"/>
                  <a:ext cx="26820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7308720" y="1125360"/>
                  <a:ext cx="274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7380360" y="1054080"/>
              <a:ext cx="142560" cy="14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571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5718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40360" y="1917720"/>
              <a:ext cx="25923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40720" y="1197000"/>
              <a:ext cx="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7596360" y="1989000"/>
                  <a:ext cx="215640" cy="2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7812000" y="1413000"/>
                  <a:ext cx="72072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5580000" y="1773360"/>
                  <a:ext cx="2001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812000" y="836640"/>
                  <a:ext cx="2174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203640" y="476280"/>
                <a:ext cx="2171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它与位置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55640" y="1125360"/>
                <a:ext cx="1181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无关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979640" y="1125360"/>
                <a:ext cx="2324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又弦是柔软的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427640" y="1125360"/>
                <a:ext cx="876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26920" y="1700280"/>
                <a:ext cx="43182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张力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方向总是沿着弦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826920" y="2276640"/>
                <a:ext cx="1600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切线方向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47640" y="2852640"/>
                <a:ext cx="2324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现在我们分析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995640" y="2852640"/>
                <a:ext cx="4127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用在小弦段上有哪些力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00000" y="3429000"/>
                <a:ext cx="3759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以便建立动力学方程式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716360" y="3429000"/>
                <a:ext cx="3594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导出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所满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900000" y="4005360"/>
                <a:ext cx="1955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的微分方程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24000" y="4581360"/>
                <a:ext cx="419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826920" y="4581360"/>
                <a:ext cx="3745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弦只作微小横振动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427640" y="4581360"/>
                <a:ext cx="4165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即在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轴方向不作运动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826920" y="5157720"/>
                <a:ext cx="48895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沿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轴方向张力代数和为零</m:t>
                    </m:r>
                    <m:r>
                      <m:t xml:space="preserve"> </m:t>
                    </m:r>
                    <m:r>
                      <m:t xml:space="preserve">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8000" y="5734080"/>
                <a:ext cx="3378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5580000" y="259920"/>
            <a:ext cx="3330720" cy="2884680"/>
            <a:chOff x="5580000" y="259920"/>
            <a:chExt cx="3330720" cy="2884680"/>
          </a:xfrm>
        </p:grpSpPr>
        <p:sp>
          <p:nvSpPr>
            <p:cNvPr id="281" name=""/>
            <p:cNvSpPr/>
            <p:nvPr/>
          </p:nvSpPr>
          <p:spPr>
            <a:xfrm>
              <a:off x="5651640" y="1917720"/>
              <a:ext cx="32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940360" y="259920"/>
              <a:ext cx="0" cy="201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27400" y="1125360"/>
              <a:ext cx="2625840" cy="20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" y="9272"/>
                  </a:moveTo>
                  <a:arcTo wR="10800" hR="10800" stAng="-10312068" swAng="9550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" y="9272"/>
                  </a:moveTo>
                  <a:arcTo wR="10800" hR="10800" stAng="-10312068" swAng="9550887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87880" y="1090080"/>
              <a:ext cx="2727000" cy="180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35" y="5598"/>
                  </a:moveTo>
                  <a:arcTo wR="10800" hR="10800" stAng="-9072339" swAng="2707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35" y="5598"/>
                  </a:moveTo>
                  <a:arcTo wR="10800" hR="10800" stAng="-9072339" swAng="2707949"/>
                </a:path>
              </a:pathLst>
            </a:cu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948360" y="980640"/>
              <a:ext cx="792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1125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795640" y="155736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724360" y="155736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5724360" y="1989000"/>
                  <a:ext cx="21600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8675640" y="1989000"/>
                  <a:ext cx="23508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5662440" y="293760"/>
                  <a:ext cx="20664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8459640" y="1989000"/>
                  <a:ext cx="1652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6012000" y="1197000"/>
                  <a:ext cx="28872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6804000" y="825480"/>
                  <a:ext cx="28908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"/>
            <p:cNvSpPr/>
            <p:nvPr/>
          </p:nvSpPr>
          <p:spPr>
            <a:xfrm>
              <a:off x="6156360" y="155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48360" y="112536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6084720" y="1989000"/>
                  <a:ext cx="216000" cy="2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659640" y="1917720"/>
                  <a:ext cx="87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5651640" y="1484280"/>
                  <a:ext cx="26820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7308720" y="1125360"/>
                  <a:ext cx="274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7380360" y="1054080"/>
              <a:ext cx="142560" cy="14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571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5718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0360" y="1917720"/>
              <a:ext cx="25923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40720" y="1197000"/>
              <a:ext cx="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7596360" y="1989000"/>
                  <a:ext cx="215640" cy="2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7812000" y="1413000"/>
                  <a:ext cx="72072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5580000" y="1773360"/>
                  <a:ext cx="2001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7812000" y="836640"/>
                  <a:ext cx="2174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68360" y="62064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927000" y="620640"/>
                <a:ext cx="370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弦的质量线密度为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643280" y="693720"/>
                <a:ext cx="1054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84360" y="1197000"/>
                <a:ext cx="4686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是弦在点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处所受外力线密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84360" y="1701720"/>
                <a:ext cx="4152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单位弦长所受的强迫力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187280" y="2421000"/>
                <a:ext cx="3168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根据牛顿第二定律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27640" y="2421000"/>
                <a:ext cx="3987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得弦在作横振动所满足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68360" y="2997360"/>
                <a:ext cx="1219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476360" y="3645000"/>
                <a:ext cx="53341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68360" y="4508640"/>
                <a:ext cx="342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82600" y="4221000"/>
                <a:ext cx="641376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956720" y="4508640"/>
                <a:ext cx="4190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258920" y="5300640"/>
                <a:ext cx="3457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振动的幅度很小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716360" y="5300640"/>
                <a:ext cx="3743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张力与水平方向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755640" y="549360"/>
                <a:ext cx="1968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夹角也很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5580000" y="259920"/>
            <a:ext cx="3330720" cy="2884680"/>
            <a:chOff x="5580000" y="259920"/>
            <a:chExt cx="3330720" cy="2884680"/>
          </a:xfrm>
        </p:grpSpPr>
        <p:sp>
          <p:nvSpPr>
            <p:cNvPr id="324" name=""/>
            <p:cNvSpPr/>
            <p:nvPr/>
          </p:nvSpPr>
          <p:spPr>
            <a:xfrm>
              <a:off x="5651640" y="1917720"/>
              <a:ext cx="32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940360" y="259920"/>
              <a:ext cx="0" cy="201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27400" y="1125360"/>
              <a:ext cx="2625840" cy="20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" y="9272"/>
                  </a:moveTo>
                  <a:arcTo wR="10800" hR="10800" stAng="-10312068" swAng="9550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" y="9272"/>
                  </a:moveTo>
                  <a:arcTo wR="10800" hR="10800" stAng="-10312068" swAng="9550887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87880" y="1090080"/>
              <a:ext cx="2727000" cy="180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35" y="5598"/>
                  </a:moveTo>
                  <a:arcTo wR="10800" hR="10800" stAng="-9072339" swAng="2707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35" y="5598"/>
                  </a:moveTo>
                  <a:arcTo wR="10800" hR="10800" stAng="-9072339" swAng="2707949"/>
                </a:path>
              </a:pathLst>
            </a:cu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948360" y="980640"/>
              <a:ext cx="792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48360" y="1125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795640" y="155736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724360" y="155736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5724360" y="1989000"/>
                  <a:ext cx="21600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8675640" y="1989000"/>
                  <a:ext cx="235080" cy="2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5662440" y="293760"/>
                  <a:ext cx="20664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8459640" y="1989000"/>
                  <a:ext cx="1652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6012000" y="1197000"/>
                  <a:ext cx="28872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6804000" y="825480"/>
                  <a:ext cx="28908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6156360" y="155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48360" y="112536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6084720" y="1989000"/>
                  <a:ext cx="216000" cy="2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6659640" y="1917720"/>
                  <a:ext cx="87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5651640" y="1484280"/>
                  <a:ext cx="26820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7308720" y="1125360"/>
                  <a:ext cx="274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4" name=""/>
            <p:cNvSpPr/>
            <p:nvPr/>
          </p:nvSpPr>
          <p:spPr>
            <a:xfrm>
              <a:off x="7380360" y="1054080"/>
              <a:ext cx="142560" cy="14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571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5718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0360" y="1917720"/>
              <a:ext cx="25923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40720" y="1197000"/>
              <a:ext cx="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596360" y="1989000"/>
                  <a:ext cx="215640" cy="2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812000" y="1413000"/>
                  <a:ext cx="72072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580000" y="1773360"/>
                  <a:ext cx="2001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7812000" y="836640"/>
                  <a:ext cx="2174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843280" y="549360"/>
                <a:ext cx="850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549360"/>
                <a:ext cx="163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只考虑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826920" y="1125360"/>
                <a:ext cx="2362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一阶小量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203640" y="1125360"/>
                <a:ext cx="2336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略去高阶小量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755640" y="1773360"/>
                <a:ext cx="3808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403280" y="2276640"/>
                <a:ext cx="14479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916360" y="2276640"/>
                <a:ext cx="1130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067280" y="2060640"/>
                <a:ext cx="1155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390680" y="3284640"/>
                <a:ext cx="1485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916360" y="3284640"/>
                <a:ext cx="1143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146480" y="3068640"/>
                <a:ext cx="1511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971640" y="4149720"/>
                <a:ext cx="3073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应用微分中值定理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900000" y="4653000"/>
                <a:ext cx="5626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6659640" y="4653000"/>
                <a:ext cx="1993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T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940360" y="5805360"/>
                <a:ext cx="2502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ξ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1258920" y="765000"/>
            <a:ext cx="3289320" cy="972000"/>
            <a:chOff x="1258920" y="765000"/>
            <a:chExt cx="3289320" cy="972000"/>
          </a:xfrm>
        </p:grpSpPr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1258920" y="765000"/>
                  <a:ext cx="32893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由于弦段</m:t>
                      </m:r>
                      <m:limUp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lim/>
                      </m:limUpp>
                      <m:r>
                        <m:rPr>
                          <m:lit/>
                          <m:nor/>
                        </m:rPr>
                        <m:t xml:space="preserve">很小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 rot="21406800">
              <a:off x="2523240" y="981720"/>
              <a:ext cx="1259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4" y="1299"/>
                  </a:moveTo>
                  <a:arcTo wR="10800" hR="10800" stAng="-7103619" swAng="3623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4" y="1299"/>
                  </a:moveTo>
                  <a:arcTo wR="10800" hR="10800" stAng="-7103619" swAng="362314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572000" y="981000"/>
                <a:ext cx="3924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加速度可以用任一点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539640" y="1628640"/>
                <a:ext cx="1994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加速度代替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56000" y="1628640"/>
                <a:ext cx="2717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于是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式可写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934240" y="189000"/>
                <a:ext cx="3209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728720" y="2349360"/>
                <a:ext cx="518472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ξ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258920" y="3573360"/>
                <a:ext cx="2362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两端同除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708360" y="3573360"/>
                <a:ext cx="1981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并令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651640" y="3573360"/>
                <a:ext cx="1587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上式化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124000" y="4221000"/>
                <a:ext cx="328932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732720" y="450864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5661000"/>
                <a:ext cx="723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908000" y="5373720"/>
                <a:ext cx="1270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419640" y="5373720"/>
                <a:ext cx="2590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755640" y="189000"/>
                <a:ext cx="50562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651640" y="189000"/>
                <a:ext cx="3309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258920" y="1700280"/>
                <a:ext cx="1968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称作弦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276720" y="1700280"/>
                <a:ext cx="2539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强迫横振动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834160" y="1628640"/>
                <a:ext cx="265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受迫振动方程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611280" y="404640"/>
                <a:ext cx="4952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表示在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时刻单位质量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4360" y="1052640"/>
                <a:ext cx="4457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弦在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点处所受到的强迫力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1258920" y="2421000"/>
                <a:ext cx="33843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弦不受外力的作用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572000" y="2421000"/>
                <a:ext cx="3314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或外力的作用消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39640" y="2997360"/>
                <a:ext cx="10922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得弦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763640" y="2997360"/>
                <a:ext cx="26798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自由横振动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627280" y="3645000"/>
                <a:ext cx="2016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00720" y="393372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332000" y="4869000"/>
                <a:ext cx="5790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弦振动方程中含有两个自变量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093080" y="4869000"/>
                <a:ext cx="1358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表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95280" y="5516640"/>
                <a:ext cx="2984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示时间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时间变量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492360" y="5516640"/>
                <a:ext cx="3606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表示位置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空间变量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7093080" y="5516640"/>
                <a:ext cx="1409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它们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036800" y="555480"/>
                <a:ext cx="53402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描述的是弦的振动或波动现象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443640" y="549360"/>
                <a:ext cx="2146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而又称它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11280" y="1197000"/>
                <a:ext cx="2336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一维波动方程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258920" y="1844640"/>
                <a:ext cx="417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类似可导出二维波动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435640" y="1844640"/>
                <a:ext cx="2857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如薄膜振动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水纹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39640" y="2492280"/>
                <a:ext cx="1219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的波动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763640" y="2492280"/>
                <a:ext cx="255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和三维波动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343400" y="2492280"/>
                <a:ext cx="4064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如电磁波、声波的传播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187280" y="3284640"/>
                <a:ext cx="4915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7740720" y="357336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187280" y="4508640"/>
                <a:ext cx="6108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740720" y="486900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116000" y="404640"/>
                <a:ext cx="2641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均匀杆的纵振动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258920" y="1197000"/>
                <a:ext cx="1955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有一均匀杆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203640" y="1197000"/>
                <a:ext cx="5113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只要杆中任一小段有沿杆长方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39640" y="1773360"/>
                <a:ext cx="303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的纵向位移或速度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635280" y="1773360"/>
                <a:ext cx="45086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必然导致邻段的压缩或伸长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349360"/>
                <a:ext cx="3073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样伸缩传递开来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635280" y="2349360"/>
                <a:ext cx="4152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就有纵波沿杆的方向传播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116000" y="2997360"/>
                <a:ext cx="7632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现在寻求杆上各点沿杆长方向的纵向位移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68360" y="3573360"/>
                <a:ext cx="2349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满足的方程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5003640" y="620640"/>
            <a:ext cx="3816360" cy="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971640" y="4292640"/>
                <a:ext cx="3429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将杆细分为许多小段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4643280" y="3716280"/>
            <a:ext cx="3816360" cy="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84720" y="371628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3280" y="3933720"/>
            <a:ext cx="1081080" cy="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2000" y="3933720"/>
            <a:ext cx="1296720" cy="716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24720" y="3933720"/>
            <a:ext cx="1081080" cy="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292720" y="4005360"/>
                <a:ext cx="21420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8360" y="4005360"/>
                <a:ext cx="1983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6516720" y="400536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724360" y="3429000"/>
                <a:ext cx="21600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7020000" y="3357720"/>
                <a:ext cx="80964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500720" y="4292640"/>
                <a:ext cx="4140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任取区间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上的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395280" y="4941720"/>
                <a:ext cx="3467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段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为代表加以研究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971640" y="5589720"/>
                <a:ext cx="232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在振动过程中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348000" y="5589720"/>
                <a:ext cx="5181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两端的位移分别记作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8748720" y="3429000"/>
                <a:ext cx="21600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24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13413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数学物理方程是指在自然科学和工程技术的各门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916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分支中出现的一些偏微分方程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有时也包括积分方程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492280"/>
            <a:ext cx="32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微分积分方程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068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数和关于空间变量的偏导数之间的制约关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6450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连续介质力学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电磁学、量子力学等等方面的基本方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343400"/>
            <a:ext cx="830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221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由于这些方程是人们对一些物理规律、物理过程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797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物理状态进行研究后归结出来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373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学物理方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86728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前         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2492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它们反映了物理量关于时间的偏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4360" y="3068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例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22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程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8640" y="479736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所以就称之为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357800" y="54936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16360" y="982800"/>
            <a:ext cx="1081080" cy="7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84720" y="982800"/>
            <a:ext cx="1297080" cy="712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597800" y="982800"/>
            <a:ext cx="1081080" cy="7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1486080"/>
            <a:ext cx="1368360" cy="7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00720" y="1486080"/>
            <a:ext cx="1657440" cy="712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101080" y="1486080"/>
            <a:ext cx="792000" cy="7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/>
          <p:nvPr/>
        </p:nvCxnSpPr>
        <p:spPr>
          <a:xfrm flipH="1" rot="16200000">
            <a:off x="5472360" y="1017720"/>
            <a:ext cx="1152720" cy="361080"/>
          </a:xfrm>
          <a:prstGeom prst="bentConnector3">
            <a:avLst>
              <a:gd name="adj1" fmla="val 65979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446" name=""/>
          <p:cNvCxnSpPr/>
          <p:nvPr/>
        </p:nvCxnSpPr>
        <p:spPr>
          <a:xfrm flipH="1" rot="16200000">
            <a:off x="7201080" y="872280"/>
            <a:ext cx="1152720" cy="505440"/>
          </a:xfrm>
          <a:prstGeom prst="bentConnector3">
            <a:avLst>
              <a:gd name="adj1" fmla="val 7382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65800" y="1054080"/>
                <a:ext cx="21420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461440" y="1054080"/>
                <a:ext cx="198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6589800" y="105408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797440" y="262080"/>
                <a:ext cx="216000" cy="20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093080" y="190440"/>
                <a:ext cx="8096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81800" y="1630440"/>
                <a:ext cx="27936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6877080" y="1630440"/>
                <a:ext cx="27936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8461440" y="1630440"/>
                <a:ext cx="28080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6013440" y="1125360"/>
                <a:ext cx="20484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597800" y="1054080"/>
                <a:ext cx="8413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684360" y="620640"/>
                <a:ext cx="3504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258920" y="1413000"/>
                <a:ext cx="2565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显然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伸长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39640" y="1989000"/>
                <a:ext cx="3810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4427640" y="1989000"/>
                <a:ext cx="2184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而相对伸长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547640" y="2708280"/>
                <a:ext cx="3708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5364000" y="2708280"/>
                <a:ext cx="1054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6516720" y="2924280"/>
                <a:ext cx="838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258920" y="3860640"/>
                <a:ext cx="19447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一般来说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059280" y="3860640"/>
                <a:ext cx="2679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在杆作纵振动时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796000" y="3860640"/>
                <a:ext cx="2692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相对伸长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还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84360" y="4437000"/>
                <a:ext cx="1612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地点而异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340000" y="4437000"/>
                <a:ext cx="4889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在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两端相对伸长就不一样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236000" y="4437000"/>
                <a:ext cx="1104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分别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755640" y="5084640"/>
                <a:ext cx="22478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12720" y="620640"/>
                <a:ext cx="3797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杆的杨氏模量是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4716360" y="549360"/>
            <a:ext cx="3816360" cy="7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357800" y="54936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982800"/>
            <a:ext cx="1081080" cy="7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84720" y="982800"/>
            <a:ext cx="1297080" cy="712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97800" y="982800"/>
            <a:ext cx="1081080" cy="7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716360" y="1486080"/>
            <a:ext cx="1368360" cy="7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300720" y="1486080"/>
            <a:ext cx="1657440" cy="712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101080" y="1486080"/>
            <a:ext cx="792000" cy="7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"/>
          <p:cNvCxnSpPr/>
          <p:nvPr/>
        </p:nvCxnSpPr>
        <p:spPr>
          <a:xfrm flipH="1" rot="16200000">
            <a:off x="5472360" y="1017720"/>
            <a:ext cx="1152720" cy="361080"/>
          </a:xfrm>
          <a:prstGeom prst="bentConnector3">
            <a:avLst>
              <a:gd name="adj1" fmla="val 65979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481" name=""/>
          <p:cNvCxnSpPr/>
          <p:nvPr/>
        </p:nvCxnSpPr>
        <p:spPr>
          <a:xfrm flipH="1" rot="16200000">
            <a:off x="7201080" y="872280"/>
            <a:ext cx="1152720" cy="505440"/>
          </a:xfrm>
          <a:prstGeom prst="bentConnector3">
            <a:avLst>
              <a:gd name="adj1" fmla="val 7382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365800" y="1054080"/>
                <a:ext cx="21420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8461440" y="1054080"/>
                <a:ext cx="198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589800" y="105408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797440" y="262080"/>
                <a:ext cx="216000" cy="20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093080" y="190440"/>
                <a:ext cx="8096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581800" y="1630440"/>
                <a:ext cx="27936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877080" y="1630440"/>
                <a:ext cx="27936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8461440" y="1630440"/>
                <a:ext cx="28080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13440" y="1125360"/>
                <a:ext cx="20484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7597800" y="1054080"/>
                <a:ext cx="8413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24000" y="1270080"/>
                <a:ext cx="2323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根据胡克定律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71640" y="1270080"/>
                <a:ext cx="1435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两端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24000" y="1916280"/>
                <a:ext cx="1079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张应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476360" y="1916280"/>
                <a:ext cx="5400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即单位横截面两方的相互作用力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948360" y="1916280"/>
                <a:ext cx="1105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分别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95280" y="2492280"/>
                <a:ext cx="27687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132000" y="2492280"/>
                <a:ext cx="401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于是写出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段的运动方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763640" y="3141720"/>
                <a:ext cx="4978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ρ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826920" y="43657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803240" y="4076640"/>
                <a:ext cx="4165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826920" y="5373720"/>
                <a:ext cx="343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835280" y="5084640"/>
                <a:ext cx="29588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395280" y="0"/>
            <a:ext cx="8497800" cy="947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在弹性变形过程中，其应力和应变（相对形变、相对伸长）成正比（即符合胡克定律），其比例系数称为弹性模量。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杨氏模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对伸长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763640" y="333360"/>
                <a:ext cx="2158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332000" y="1557360"/>
                <a:ext cx="1993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于均匀杆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3348000" y="1484280"/>
                <a:ext cx="2718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ρ和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都是常数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1484280"/>
                <a:ext cx="2184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从而得均匀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1280" y="2133720"/>
                <a:ext cx="2501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的纵振动方程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050920" y="2852640"/>
                <a:ext cx="2016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755640" y="4292640"/>
                <a:ext cx="723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908000" y="4076640"/>
                <a:ext cx="1308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716360" y="3068640"/>
                <a:ext cx="3733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与弦的波动方程相一致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324000" y="3789360"/>
            <a:ext cx="8820000" cy="1373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上方程推导过程，实际上就是将微元 运动满足的物理定律用已知函数、未知函数及其偏导数表示的数学式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弦振动问题中的基本物理定律是牛顿第二定律和胡克定律，由此可见，凡是弹性介质中微小扰动的传播问题，如弹性杆的纵振动、弹性膜的横振动、声波在空气中的传播等，都可用类似方法导出同一类型方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227640" y="0"/>
                <a:ext cx="15130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539640" y="476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定解条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126828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数学物理方程是同一类现象的共同规律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76720" y="1844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但对物理现象而言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61400" y="184464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是该类现象普遍性的一面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96360" y="1268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反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2421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各个具体问题还有其特殊性的一面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56360" y="24210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就要研究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2997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研究对象所处的特定“环境”和“历史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4364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即边界条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3573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和初始条件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000" y="429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1818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cc1818"/>
                </a:solidFill>
                <a:latin typeface="宋体"/>
              </a:rPr>
              <a:t>初始条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476360" y="5013360"/>
                <a:ext cx="6696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表示某过程“初始”时刻状态的条件称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755640" y="5589720"/>
                <a:ext cx="16257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初始条件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500"/>
                            </p:stCondLst>
                            <p:childTnLst>
                              <p:par>
                                <p:cTn id="1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476360" y="476280"/>
                <a:ext cx="3646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于弦振动问题而言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148360" y="476280"/>
                <a:ext cx="31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初始条件是指弦在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39640" y="1125360"/>
                <a:ext cx="4343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“初始”时刻的位移和速度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022720" y="1131840"/>
                <a:ext cx="3200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用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分别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755640" y="1773360"/>
                <a:ext cx="41274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表示弦的初始位移和速度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1773360"/>
                <a:ext cx="3673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初始条件可表示为：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5" name=""/>
          <p:cNvGrpSpPr/>
          <p:nvPr/>
        </p:nvGrpSpPr>
        <p:grpSpPr>
          <a:xfrm>
            <a:off x="1908000" y="2349360"/>
            <a:ext cx="2300400" cy="1485720"/>
            <a:chOff x="1908000" y="2349360"/>
            <a:chExt cx="2300400" cy="1485720"/>
          </a:xfrm>
        </p:grpSpPr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1908000" y="2565360"/>
                  <a:ext cx="3812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2220840" y="2349360"/>
                  <a:ext cx="173988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8" name=""/>
                <p:cNvSpPr txBox="1"/>
                <p:nvPr/>
              </p:nvSpPr>
              <p:spPr>
                <a:xfrm>
                  <a:off x="2214720" y="2997000"/>
                  <a:ext cx="19936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7093080" y="278136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324000" y="429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1818"/>
                </a:solidFill>
                <a:latin typeface="宋体"/>
              </a:rPr>
              <a:t>2 </a:t>
            </a:r>
            <a:r>
              <a:rPr b="1" lang="zh-CN" sz="2800" spc="-1" strike="noStrike">
                <a:solidFill>
                  <a:srgbClr val="cc1818"/>
                </a:solidFill>
                <a:latin typeface="宋体"/>
              </a:rPr>
              <a:t>边界条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476360" y="5157720"/>
                <a:ext cx="6883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表示某过程物理量在系统的边界上所满足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55640" y="5734080"/>
                <a:ext cx="2376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物理条件称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059280" y="5734080"/>
                <a:ext cx="1625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边界条件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500"/>
                            </p:stCondLst>
                            <p:childTnLst>
                              <p:par>
                                <p:cTn id="1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042920" y="404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边界条件分三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4000" y="119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类边界条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030320" y="1916280"/>
                <a:ext cx="5257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直接给出物理量在边界上的数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914400" y="2637000"/>
                <a:ext cx="7899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弦的一端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如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运动规律为已知函数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468360" y="3284640"/>
                <a:ext cx="23241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而另一端固定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843280" y="3284640"/>
                <a:ext cx="230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边界条件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1457280" y="3933720"/>
                <a:ext cx="2057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3708360" y="3933720"/>
                <a:ext cx="1562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6372360" y="386064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1116000" y="4724280"/>
                <a:ext cx="2679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弦的两端固定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24360" y="4724280"/>
                <a:ext cx="230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边界条件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35040" y="5516640"/>
                <a:ext cx="1612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635280" y="5516640"/>
                <a:ext cx="15620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6443640" y="5445000"/>
                <a:ext cx="1079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固定端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468360" y="620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类边界条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68560" y="1419120"/>
                <a:ext cx="5981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给定未知量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在边界上的法向导数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143000" y="2066760"/>
                <a:ext cx="7404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弦的一端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如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在垂直于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轴的直线上自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539640" y="2637000"/>
                <a:ext cx="1206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滑动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835280" y="2637000"/>
                <a:ext cx="452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且不受位移方向的外力作用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258920" y="3357720"/>
                <a:ext cx="876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此时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11280" y="4076640"/>
                <a:ext cx="342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1763640" y="4149720"/>
                <a:ext cx="2336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≈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268360" y="3357720"/>
                <a:ext cx="6337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个端点弦在位移方向的张力应该为零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140360" y="3933720"/>
                <a:ext cx="1511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684360" y="5229360"/>
                <a:ext cx="342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763640" y="4941720"/>
                <a:ext cx="16383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932360" y="5157720"/>
                <a:ext cx="1028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自由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5724360" y="4149720"/>
                <a:ext cx="584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"/>
                            </p:stCondLst>
                            <p:childTnLst>
                              <p:par>
                                <p:cTn id="1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1312920" y="482760"/>
                <a:ext cx="7162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边界张力沿位移方向的分量是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一个已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07960" y="1131840"/>
                <a:ext cx="1600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函数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195640" y="1125360"/>
                <a:ext cx="3468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则相应的边界条件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314440" y="1844640"/>
                <a:ext cx="2070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6227640" y="206064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324000" y="292428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类边界条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743040" y="3722760"/>
                <a:ext cx="8128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给出边界上未知函数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及其法向导数间的线性关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1214280" y="4443480"/>
                <a:ext cx="7220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将弦的一端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如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固定在某弹性支撑上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52600" y="5084640"/>
                <a:ext cx="5734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并且弹性支撑的伸缩符合胡克定律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168560" y="5734080"/>
                <a:ext cx="3543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若支撑的位置为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859280" y="5734080"/>
                <a:ext cx="4000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在端点的值表示支撑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500"/>
                            </p:stCondLst>
                            <p:childTnLst>
                              <p:par>
                                <p:cTn id="1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9640" y="404640"/>
                <a:ext cx="2349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在端点的伸长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059280" y="404640"/>
                <a:ext cx="1917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胡克定律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076720" y="404640"/>
                <a:ext cx="3390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时弦在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处沿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611280" y="1052640"/>
                <a:ext cx="2679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移方向的张力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619280" y="1628640"/>
                <a:ext cx="27813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116000" y="2708280"/>
                <a:ext cx="851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050920" y="2708280"/>
                <a:ext cx="3035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在弹性支撑的情形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148360" y="2708280"/>
                <a:ext cx="332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边界条件可归结为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124000" y="3500280"/>
                <a:ext cx="2718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u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900000" y="4869000"/>
                <a:ext cx="723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2195640" y="4653000"/>
                <a:ext cx="863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419640" y="4869000"/>
                <a:ext cx="1981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是已知函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"/>
                            </p:stCondLst>
                            <p:childTnLst>
                              <p:par>
                                <p:cTn id="1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500"/>
                            </p:stCondLst>
                            <p:childTnLst>
                              <p:par>
                                <p:cTn id="1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403280" y="549360"/>
                <a:ext cx="1460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一般地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606680" y="1341360"/>
                <a:ext cx="31496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u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508720" y="1628640"/>
                <a:ext cx="457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116000" y="2565360"/>
                <a:ext cx="4000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是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的已知函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372360" y="1628640"/>
                <a:ext cx="1815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弹性支撑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1258920" y="4437000"/>
                <a:ext cx="2349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齐次边界条件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258920" y="5157720"/>
                <a:ext cx="2705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非齐次边界条件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1042920" y="3500280"/>
            <a:ext cx="61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边界条件和初始条件统称为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定解条件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500"/>
                            </p:stCondLst>
                            <p:childTnLst>
                              <p:par>
                                <p:cTn id="1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微积分产生以后，人们就开始把力学中的一些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052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题和规律，归结为偏微分方程而进行研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752480"/>
            <a:ext cx="19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世纪初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421000"/>
            <a:ext cx="18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方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2767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00360" y="2738520"/>
                <a:ext cx="18716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50920" y="36450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并探讨了它的解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3988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运动、弹性体的平衡和振动、热传导、电磁相互作用、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056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原子核和电子的相互作用等等自然现象的基本规律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04000" y="10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早在十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1773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aylor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将弦的振动问题归结为如下的偏微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3645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随后，人们又陆续了解了流体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755640" y="83664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332000" y="836640"/>
                <a:ext cx="4152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一根长为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两端固定的弦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5508720" y="836640"/>
                <a:ext cx="2908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把它的中点横向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971640" y="1484280"/>
                <a:ext cx="1866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开距离为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843280" y="1484280"/>
                <a:ext cx="3060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放手任其自由振动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867280" y="1484280"/>
                <a:ext cx="255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试写出它的初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971640" y="2060640"/>
                <a:ext cx="2705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条件和边界条件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6877080" y="3716280"/>
                <a:ext cx="1778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1" name=""/>
          <p:cNvGrpSpPr/>
          <p:nvPr/>
        </p:nvGrpSpPr>
        <p:grpSpPr>
          <a:xfrm>
            <a:off x="2916360" y="2997360"/>
            <a:ext cx="3787200" cy="2133360"/>
            <a:chOff x="2916360" y="2997360"/>
            <a:chExt cx="3787200" cy="213336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2916360" y="3286080"/>
                  <a:ext cx="38088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336840" y="2997360"/>
                  <a:ext cx="837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3348000" y="4292640"/>
                  <a:ext cx="15361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5005440" y="2997360"/>
                  <a:ext cx="13582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5076720" y="4222800"/>
                  <a:ext cx="13078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6589440" y="4006800"/>
                  <a:ext cx="114120" cy="17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1692360" y="3860640"/>
                <a:ext cx="1270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348000" y="5516640"/>
                <a:ext cx="28065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1187280" y="27082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初始条件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1187280" y="5445000"/>
                <a:ext cx="1587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边界条件：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404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把它们写成偏微分方程的形式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05264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的解答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75248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常重要的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30686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有了基本规律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64500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究复杂的自然现象和工程技术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221000"/>
            <a:ext cx="49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数学物理方程中的许多问题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9528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876920"/>
            <a:ext cx="81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是相当复杂的问题，也有可能计算出解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数值来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54864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对于预测自然现象的变化（如气象预报）和进行各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83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并且求出了典型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7280" y="105264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从而能通过实践，验证这些基本规律的正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4480" y="177336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所以数学物理方程对于认识自然界基本规律是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5560" y="3068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们还要利用这些基本规律来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6160" y="364500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样又需要求解这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422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计算机出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之后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4221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即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29440" y="486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工程设计（如机械强度的计算）有着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重要的作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06668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在研究数学物理方程的同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70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程的性质也了解得越来越多，越来越深入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362320"/>
            <a:ext cx="75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数学中的一门重要分支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偏微分方程理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971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有悠久的历史，又不断地更新它的对象、内容和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505320"/>
            <a:ext cx="10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07664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地产生需要解决的新课题和新方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724280"/>
            <a:ext cx="38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数学问题多样而复杂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3737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联的数学分支（如泛函分析、复变函数、微分几何、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1052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们对偏微分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77480" y="17002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形成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93120" y="234936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它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35002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由于它直接联系着许多自然现象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3500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所以又不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08080" y="407664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由于它面临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72428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所以不断地促进着许多相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457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计算数学等）的发展，并从它们之中引进许多有用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05264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解决问题的工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许多分支和自然科学各学科间的一座桥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286000"/>
            <a:ext cx="63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数学物理方程已成为一门独立的学科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852640"/>
            <a:ext cx="77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理解自然科学、提高科学文化素质的必需营养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429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象、机械、电信、化工、生态、经济、人口和其他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962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会科学的各个领域中都会遇到表现数学物理方程的模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495680"/>
            <a:ext cx="9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0292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科学工作者的重要课题而不仅仅是数学家们的责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562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随着科学研究的专业化和科学计算的飞速发展，数学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66640" y="105264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所以数学物理方程又是纯粹数学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77080" y="227664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它是我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285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4508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解释这些模型的合理性和寻求它们的解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22200" y="45086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已成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765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物理方程已成为自然科技工作者们的重要工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2157840"/>
            <a:ext cx="87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Garamond"/>
              </a:rPr>
              <a:t>在自然科学和工程技术中为了把较复杂的运算转化为较简单的运算，人们常采用</a:t>
            </a:r>
            <a:r>
              <a:rPr b="1" lang="zh-CN" sz="2800" spc="-1" strike="noStrike">
                <a:solidFill>
                  <a:srgbClr val="cc1818"/>
                </a:solidFill>
                <a:latin typeface="Garamond"/>
              </a:rPr>
              <a:t>变换</a:t>
            </a:r>
            <a:r>
              <a:rPr b="1" lang="zh-CN" sz="2800" spc="-1" strike="noStrike">
                <a:solidFill>
                  <a:srgbClr val="3333cc"/>
                </a:solidFill>
                <a:latin typeface="Garamond"/>
              </a:rPr>
              <a:t>的方法来达到目的．例如在初等数学中，数量的乘积和商可以通过对数变换化为较简单的加法和减法运算．在工程数学中</a:t>
            </a:r>
            <a:r>
              <a:rPr b="1" lang="zh-CN" sz="2800" spc="-1" strike="noStrike">
                <a:solidFill>
                  <a:srgbClr val="cc1818"/>
                </a:solidFill>
                <a:latin typeface="Garamond"/>
              </a:rPr>
              <a:t>积分变换</a:t>
            </a:r>
            <a:r>
              <a:rPr b="1" lang="zh-CN" sz="2800" spc="-1" strike="noStrike">
                <a:solidFill>
                  <a:srgbClr val="3333cc"/>
                </a:solidFill>
                <a:latin typeface="Garamond"/>
              </a:rPr>
              <a:t>能够将分析运算（如微分、积分）转化为代数运算，正是积分变换的这一特性，使得它在常微分方程、偏微分方程求解中成为重要的方法之一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77840" y="328464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通过本课程的学习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0053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模型（如弹性体的振动、热的传导及稳定场等）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653000"/>
            <a:ext cx="21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建模方法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5373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生应用数学方法分析问题和解决问题的能力。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000" y="328464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使学生理解数学物理方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4000" y="4653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掌握数学物理方程的基本解法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08360" y="465300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提高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76280"/>
            <a:ext cx="8569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积分变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理论方法不仅在数学的诸多分支中得到广泛的应用，而且在许多科学技术领域中，例如物理学、力学、现代光学、无线电技术以及信号处理等方面，作为一种研究工具发挥着十分重要的作用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4360" y="1773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本章从几个不同的物理模型出发，建立数学物理方程的三个典型方程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7080" y="2205000"/>
            <a:ext cx="266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220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即</a:t>
            </a:r>
            <a:r>
              <a:rPr b="1" lang="zh-CN" sz="2800" spc="-1" strike="noStrike">
                <a:solidFill>
                  <a:srgbClr val="cc1818"/>
                </a:solidFill>
                <a:latin typeface="Times New Roman"/>
              </a:rPr>
              <a:t>波动方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1818"/>
                </a:solidFill>
                <a:latin typeface="Times New Roman"/>
              </a:rPr>
              <a:t>热传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27082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1818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cc1818"/>
                </a:solidFill>
                <a:latin typeface="Times New Roman"/>
              </a:rPr>
              <a:t>拉普拉斯方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68720" y="2709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方面，这些方程很好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720" y="31417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描述了一些基本的物理现象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3141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能解决一些重要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36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题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60360" y="3645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方面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过对这些问题的研究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1080" y="3645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可以掌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2720" y="4149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些方法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414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作为探讨新问题的参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4653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为了建立方程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465300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首先要选取某个表征过程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2720" y="5157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物理量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5157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次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51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从所研究的系统中任取一小部分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2720" y="566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研究这一小部分和邻近部分的相互作用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05440" y="5661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过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5960" y="25704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第一章  典型方程与定解条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98100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数学模型的建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5:30:28Z</dcterms:created>
  <dc:creator>user</dc:creator>
  <dc:description/>
  <dc:language>en-US</dc:language>
  <cp:lastModifiedBy>FtpDown</cp:lastModifiedBy>
  <cp:lastPrinted>1999-09-15T08:06:35Z</cp:lastPrinted>
  <dcterms:modified xsi:type="dcterms:W3CDTF">2016-04-18T15:08:47Z</dcterms:modified>
  <cp:revision>148</cp:revision>
  <dc:subject/>
  <dc:title>幻灯片 1</dc:title>
</cp:coreProperties>
</file>